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E22-60A7-41D2-B3B3-B04DD085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C8A-9D7C-4BE7-B9C3-790E0A8F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66E-3C6B-4E29-8FF7-D9C05FDD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897-D392-45FA-BB13-B5E697C9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7BA-FE2B-4481-ADF1-995B03AC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D23-1C63-40D0-9C0E-FE5E53F5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418-D582-4204-9954-0581CE7B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F51-EB7C-48D2-8899-09177656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B53-8A3E-40A7-972C-7392E339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D55-AB27-4EE9-B706-0E841308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6E4-453F-46F7-BCA5-1F724988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1AE-04B8-4B16-9527-8F31274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F46A-E6BD-435D-8433-8A2D6F035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Digits and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289080" y="5257800"/>
            <a:ext cx="88642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8864640" cy="2668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680" y="40384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r B has finer markings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should make it easier to get one more digit when meas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measur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uch thing as an exact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git is considered significant when it is known with some reliability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ther words, even though the last number is an estimate, it is signific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how do we express what is significant when wri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n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s are Sig. Fi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in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the decimal are Sig. Fi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2 Sig. Figs. Are Sig. Fi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only to mark the decimal place are 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. Fig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the zer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533520" y="228600"/>
            <a:ext cx="205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2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0.008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1.0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6) 967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5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0.000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) 0.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) 0.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0.0056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) 0.008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3) 7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4) 7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) 78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429000" y="228600"/>
            <a:ext cx="2133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6) 0.0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7) 3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8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9) 0.004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0) 0.00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1) 0.009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2) 0.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3) 4.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4) 0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5)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6) 0.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7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5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8) 7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9) 78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30) 78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394240" y="363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867280" y="228600"/>
            <a:ext cx="2514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) 0.004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) 0.00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) 2305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) 100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) 0.006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) 9.6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) 7.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) 70,1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) 0.0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) 0.0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) 0.0076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) 0.000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) 0.9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) 0.4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) 670,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57200" y="5867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t is assumed blue answers do not have zeros that arose from mere conversion (grams to kg, meters to kilometers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533520" y="228600"/>
            <a:ext cx="205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2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0.008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1.0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6) 967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5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0.000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) 0.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) 0.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0.0056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) 0.008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3) 7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4) 7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) 78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429000" y="228600"/>
            <a:ext cx="2133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6) 0.0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7) 3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8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9) 0.004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0) 0.00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1) 0.009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2) 0.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3) 4.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4) 0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5)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6) 0.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7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5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8) 7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9) 78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30) 78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394240" y="363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867280" y="228600"/>
            <a:ext cx="2514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) 0.004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) 0.00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) 2305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) 100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) 0.006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) 9.6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) 7.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) 70,1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) 0.0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) 0.0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) 0.0076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) 0.000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) 0.9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) 0.4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) 670,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438280" y="228600"/>
            <a:ext cx="685800" cy="55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334120" y="304920"/>
            <a:ext cx="609480" cy="55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8077320" y="228600"/>
            <a:ext cx="685800" cy="59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57200" y="5867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t is assumed blue answers do not have zeros that arose from mere conversion (grams to kg, meters to kilometers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this type of mathematical process must round to the last column of the least accurat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nswer can never contain more Sig. Figs. than your least accurat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following problem expressing your answer with the proper amount of Sig. Fig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 x 3.17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09480" y="5105520"/>
            <a:ext cx="4496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654 becomes 19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341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doe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change to proper sig. Figs. at the end of a comput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39:30Z</dcterms:created>
  <dc:creator>Fio Babaganouch</dc:creator>
  <dc:description/>
  <dc:language>en-US</dc:language>
  <cp:lastModifiedBy>"%username%"</cp:lastModifiedBy>
  <dcterms:modified xsi:type="dcterms:W3CDTF">2016-09-08T12:53:41Z</dcterms:modified>
  <cp:revision>14</cp:revision>
  <dc:subject/>
  <dc:title>Significant Digits and Measurement</dc:title>
</cp:coreProperties>
</file>